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9.wmf" ContentType="image/x-wmf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wmf" ContentType="image/x-wmf"/>
  <Override PartName="/ppt/media/image14.jpeg" ContentType="image/jpeg"/>
  <Override PartName="/ppt/media/image35.wmf" ContentType="image/x-wmf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DB91-DE1E-4540-93BA-A9D2E21C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909C5-D9AB-48CF-9588-2E2EC1E1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0AA2-AC68-4F20-B6B2-47709D0E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1FBFD-DC6D-40C2-A9A2-053FB7C8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E7B9-A4A3-4F5B-AF26-D721E81D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4E60-1297-4D00-825C-F4A0486A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B026-903A-485B-BBC7-2AA2937B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1B2A-51FC-4816-9C66-EECC2ED0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73B9-A4E5-4DAF-B751-778F1C63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A34E-0A0C-4FAB-908C-F97F5796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2C4C-1A75-46A8-8AAA-E5E871C9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488B6-CFF6-44F5-A199-5568E3CB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672C-D868-49BD-88A1-0A841A59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6989-9D49-4412-9828-C48E5170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320E-5165-42DB-B115-347041A8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AA40-0395-49B3-A2EE-C6E424AD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B86F-8FC9-45AB-9846-D968818F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6644-1DCD-4A43-A242-E21666E0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075B7-38DC-4DE3-BF94-6BB723FC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5A83-AE17-46C2-8C71-8CF2D08F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8A0FC-183C-48C8-BD44-894B3D5D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4938C-56DB-4003-8DA8-4596371A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53043-2773-4FB3-812B-3B60EEE3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A85E0-9465-49E8-9317-E319CCB7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0051-B56B-4A09-8F1E-7DEFB40790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1380-B1BE-4339-959A-8A28E85B2F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2640" y="2204640"/>
            <a:ext cx="629136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ЗА  ЗЕМЛЮ РУССКУЮ !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24080" y="4220640"/>
            <a:ext cx="601992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0000b8"/>
                </a:solidFill>
                <a:latin typeface="Times New Roman"/>
              </a:rPr>
              <a:t>Разработал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b8"/>
                </a:solidFill>
                <a:latin typeface="Times New Roman"/>
              </a:rPr>
              <a:t>      </a:t>
            </a:r>
            <a:r>
              <a:rPr b="1" i="1" lang="en-US" sz="3000" spc="-1" strike="noStrike">
                <a:solidFill>
                  <a:srgbClr val="0000b8"/>
                </a:solidFill>
                <a:latin typeface="Times New Roman"/>
              </a:rPr>
              <a:t>учитель начальных клас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b8"/>
                </a:solidFill>
                <a:latin typeface="Times New Roman"/>
              </a:rPr>
              <a:t>         </a:t>
            </a:r>
            <a:r>
              <a:rPr b="1" i="1" lang="en-US" sz="3000" spc="-1" strike="noStrike">
                <a:solidFill>
                  <a:srgbClr val="0000b8"/>
                </a:solidFill>
                <a:latin typeface="Times New Roman"/>
              </a:rPr>
              <a:t>средней школы № 1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b8"/>
                </a:solidFill>
                <a:latin typeface="Times New Roman"/>
              </a:rPr>
              <a:t>           </a:t>
            </a:r>
            <a:r>
              <a:rPr b="1" i="1" lang="en-US" sz="3000" spc="-1" strike="noStrike">
                <a:solidFill>
                  <a:srgbClr val="0000b8"/>
                </a:solidFill>
                <a:latin typeface="Times New Roman"/>
              </a:rPr>
              <a:t>Советского  рай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b8"/>
                </a:solidFill>
                <a:latin typeface="Times New Roman"/>
              </a:rPr>
              <a:t>                      </a:t>
            </a:r>
            <a:r>
              <a:rPr b="1" lang="en-US" sz="3000" spc="-1" strike="noStrike">
                <a:solidFill>
                  <a:srgbClr val="0000b8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b8"/>
                </a:solidFill>
                <a:latin typeface="Times New Roman"/>
              </a:rPr>
              <a:t>Лапо Н. 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404640"/>
            <a:ext cx="2077920" cy="648000"/>
          </a:xfrm>
          <a:custGeom>
            <a:avLst/>
            <a:gdLst>
              <a:gd name="textAreaLeft" fmla="*/ 519480 w 2077920"/>
              <a:gd name="textAreaRight" fmla="*/ 1558440 w 2077920"/>
              <a:gd name="textAreaTop" fmla="*/ 8100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ок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7480" y="3284640"/>
            <a:ext cx="529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рок по истории 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55640" y="5157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. Сухов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«Новгород Великий. Мост и София о 13 верхах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329440" cy="410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1398" t="4875" r="45196" b="3942"/>
          <a:stretch/>
        </p:blipFill>
        <p:spPr>
          <a:xfrm>
            <a:off x="1619280" y="1557360"/>
            <a:ext cx="6265800" cy="4616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57480" y="549360"/>
            <a:ext cx="324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b8"/>
                </a:solidFill>
                <a:latin typeface="Arial"/>
              </a:rPr>
              <a:t>Невская  би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1921" r="0" b="0"/>
          <a:stretch/>
        </p:blipFill>
        <p:spPr>
          <a:xfrm>
            <a:off x="684360" y="907920"/>
            <a:ext cx="8135640" cy="4097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611280" y="5300640"/>
            <a:ext cx="100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Д. Кившен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единок Александра Невского с предводите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ве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88160" y="692280"/>
            <a:ext cx="2614320" cy="475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5654520" y="54450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н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 Н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667520"/>
            <a:ext cx="49309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ть о победе на Не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неслась по всей Ру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у за эту битву д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звищ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вско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было князю Александ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рославовичу всего 2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3044520" cy="424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447840" y="546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5445000"/>
            <a:ext cx="36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ору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вропейского рыц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62840" y="692280"/>
            <a:ext cx="2489040" cy="5041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5490000" y="6040440"/>
            <a:ext cx="34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вропейский рыц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51280" y="907920"/>
            <a:ext cx="4861080" cy="395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825840" y="5588280"/>
            <a:ext cx="75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Пскова русские рати выступили навстреч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естоносц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2592360" cy="403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84000" y="48690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ород П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5183280" cy="3802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684360" y="4653000"/>
            <a:ext cx="799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Бас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Александр Невский, молящийся об избавлении своего  Отечест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скиз росписи  Исаакиевского собора в Санкт-Петербур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58009" t="5513" r="2619" b="4629"/>
          <a:stretch/>
        </p:blipFill>
        <p:spPr>
          <a:xfrm>
            <a:off x="1042920" y="1773360"/>
            <a:ext cx="4753080" cy="468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4443480" y="898560"/>
            <a:ext cx="113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57080" y="404640"/>
            <a:ext cx="86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b8"/>
                </a:solidFill>
                <a:latin typeface="Arial"/>
              </a:rPr>
              <a:t>Сражение на Чудском озе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b8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0000b8"/>
                </a:solidFill>
                <a:latin typeface="Arial"/>
              </a:rPr>
              <a:t>на Узмени, у Воронья кам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594560" cy="569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1500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4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1923840" cy="5661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940360" y="692280"/>
            <a:ext cx="2305080" cy="339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5364720" y="4221000"/>
            <a:ext cx="35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ору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усского дружи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13280" y="5535720"/>
            <a:ext cx="31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усский дружи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49780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6000" y="5589720"/>
            <a:ext cx="51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b8"/>
                </a:solidFill>
                <a:latin typeface="Arial"/>
              </a:rPr>
              <a:t>«За землю русскую 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518600" cy="5638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7144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5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761080" cy="3570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2126520" y="4508640"/>
            <a:ext cx="50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Назарук. «Ледовое побоищ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400" y="5084640"/>
            <a:ext cx="80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И обратились немцы в бегство, и гнали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усские  с боем как по воздуху, и не куда им бы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бежать,  били их 7 верст по льду…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исал летопис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688000" cy="3668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4644000" y="9810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465300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.Угрю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Торжественный   въезд Александра Не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город Псков после одержанной им победы над немца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4176720" cy="4969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5004360" y="4245120"/>
            <a:ext cx="371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.Семирад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 Прием Александ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вским пап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лов в Новгород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84720" y="620640"/>
            <a:ext cx="2741760" cy="525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469440" y="1556640"/>
            <a:ext cx="51138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«Кто с мечом к н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ид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т меча и погиб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 том стоя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то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стоять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емля Русская!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1080" y="582444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лександр Н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7812000" y="6165720"/>
            <a:ext cx="698760" cy="505080"/>
          </a:xfrm>
          <a:prstGeom prst="ellipse">
            <a:avLst/>
          </a:prstGeom>
          <a:solidFill>
            <a:srgbClr val="0000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516720" y="692280"/>
            <a:ext cx="1749240" cy="280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3060720" y="1700280"/>
            <a:ext cx="291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ору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нязя Алекса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1846440" cy="309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2154240" cy="216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276720" y="4221000"/>
            <a:ext cx="1990440" cy="218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5366520" y="486900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лександра Не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5" action="ppaction://hlinksldjump"/>
          </p:cNvPr>
          <p:cNvSpPr/>
          <p:nvPr/>
        </p:nvSpPr>
        <p:spPr>
          <a:xfrm>
            <a:off x="7812000" y="6165720"/>
            <a:ext cx="698760" cy="505080"/>
          </a:xfrm>
          <a:prstGeom prst="ellipse">
            <a:avLst/>
          </a:prstGeom>
          <a:solidFill>
            <a:srgbClr val="0000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438640" cy="3167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020000" y="836640"/>
            <a:ext cx="1655640" cy="2305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468360" y="458136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Александра Ярославича Невского пользовалось огромной популярностью на Руси. В 1547 году он был канонизирован. Русская православная церковь причислила храброго князя к лику свят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91280" y="765000"/>
            <a:ext cx="350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Святой благове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еликий князь Алексан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вский». Икона Троиц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бора Александр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всккой лавры в Санкт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тербур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8760" y="3500280"/>
            <a:ext cx="472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имон Ушаков со товарищ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Александр Невский». Арханге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бор Московского Крем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684360" y="907920"/>
          <a:ext cx="306360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07920"/>
                    <a:ext cx="3063600" cy="41767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926520" y="2924280"/>
            <a:ext cx="5126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язю посвящен один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х ярких памят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ой литератур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Жития Александра Невского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ленное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движником  и друг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трополитом  Кирил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72960" y="1197000"/>
            <a:ext cx="3119400" cy="3887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3631320" y="1484280"/>
            <a:ext cx="516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725 году в России бы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режден орден свя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а Нев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42 году, в разгар Вел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ечественной войны, бы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ен орден Алекса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в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 стали награждать осо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личившихся команди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84720" y="620640"/>
            <a:ext cx="2741760" cy="525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5367600" y="609300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лександр Н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836640"/>
            <a:ext cx="49672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  решился исход противостояния.        И орден заключил мир с Новгородом, отказавшись от всех русских зем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сь отстояла свою свободу от врагов с севера и  зап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29973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Кто с мечом к н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д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 меча и погиб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 том стоя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то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стоять бу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емля Русская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70880" y="3500280"/>
            <a:ext cx="399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 времен Древ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уси жителям наш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раны ча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ходилось защищ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одную землю от вр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59280" y="1197000"/>
            <a:ext cx="3735360" cy="424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2070000" cy="460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397440" y="5516640"/>
            <a:ext cx="36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оружение и доспе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ина-коче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6160" y="1557360"/>
            <a:ext cx="532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 юга со стороны степей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усские земли соверш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беги племен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епняков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чевников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ак назыв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роды, которые занима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котоводством и кочев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передвигались) со сво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тадами по степ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3080" y="692280"/>
            <a:ext cx="42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b8"/>
                </a:solidFill>
                <a:latin typeface="Arial"/>
              </a:rPr>
              <a:t>Набеги кочев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389720" cy="496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219640" y="476280"/>
            <a:ext cx="2448000" cy="1727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50920" y="4941720"/>
            <a:ext cx="2371680" cy="1462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877080" y="3860640"/>
            <a:ext cx="2124000" cy="1517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545080" cy="5054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29400" y="5734080"/>
            <a:ext cx="85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ля чего русские дружинники зажигают косте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95280" y="907920"/>
          <a:ext cx="4195800" cy="47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07920"/>
                    <a:ext cx="4195800" cy="47516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4788000" y="1197000"/>
            <a:ext cx="45720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нача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ь пришла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пада. Отсюда русским землям угрожал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вропейские рыцари (шведы и рыцари-крестоносцы)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е называли знатных воинов, которые сраж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нном строю, используя тяжелые желез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пехи с изображением кр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97840" y="549360"/>
            <a:ext cx="74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b8"/>
                </a:solidFill>
                <a:latin typeface="Arial"/>
              </a:rPr>
              <a:t>Завоевательные походы немец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b8"/>
                </a:solidFill>
                <a:latin typeface="Arial"/>
              </a:rPr>
              <a:t>и шведских захватчиков в </a:t>
            </a:r>
            <a:r>
              <a:rPr b="1" lang="en-US" sz="3200" spc="-1" strike="noStrike">
                <a:solidFill>
                  <a:srgbClr val="0000b8"/>
                </a:solidFill>
                <a:latin typeface="Arial"/>
              </a:rPr>
              <a:t>XIII</a:t>
            </a:r>
            <a:r>
              <a:rPr b="1" lang="ru-RU" sz="3200" spc="-1" strike="noStrike">
                <a:solidFill>
                  <a:srgbClr val="0000b8"/>
                </a:solidFill>
                <a:latin typeface="Arial"/>
              </a:rPr>
              <a:t>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299360" cy="459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56360" y="692280"/>
            <a:ext cx="2346120" cy="4263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46831" t="6166" r="2196" b="25968"/>
          <a:stretch/>
        </p:blipFill>
        <p:spPr>
          <a:xfrm>
            <a:off x="900000" y="620640"/>
            <a:ext cx="3816360" cy="2738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4616" t="8564" r="57922" b="25756"/>
          <a:stretch/>
        </p:blipFill>
        <p:spPr>
          <a:xfrm>
            <a:off x="539640" y="4076640"/>
            <a:ext cx="2664000" cy="2517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3780360" y="5157720"/>
            <a:ext cx="495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овгороде княжил Александ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ын великого князя Яросл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володови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6400" y="3500280"/>
            <a:ext cx="48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М.Васнецов.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вор русского княз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46920" y="4149720"/>
            <a:ext cx="274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фийский собор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иком Новго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48:01Z</dcterms:created>
  <dc:creator>Пас</dc:creator>
  <dc:description/>
  <dc:language>en-US</dc:language>
  <cp:lastModifiedBy>user</cp:lastModifiedBy>
  <dcterms:modified xsi:type="dcterms:W3CDTF">2009-01-07T07:09:30Z</dcterms:modified>
  <cp:revision>55</cp:revision>
  <dc:subject/>
  <dc:title>«ЗА  ЗЕМЛЮ РУССКУЮ»</dc:title>
</cp:coreProperties>
</file>